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0D1-C8B9-465B-8C9F-512A281A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1C9-E57B-4111-BFC3-9121F676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4E6-8B59-4AB9-B3F5-EA8E27D1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F4E-E661-4E93-A031-37119CCE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60E-7EA1-4465-962E-EBD777D8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9F2-7A1B-40E7-A47F-57012776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1F3-AB86-49D9-9E4A-04ABA6D9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0C6-B1E0-477B-AE1A-230EA8F2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560-DBCA-4D86-BEC7-BDEC1824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F06-8DB7-45AB-A14C-D6CDD048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C36-E9DE-4072-97ED-16B92F3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CB7-6BD4-42F8-A0FF-C2B77C7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1F22-1AF7-4D5F-8E62-A9692A1BC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anuar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e model performer/factors effec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49360"/>
            <a:ext cx="8280360" cy="69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del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racteristics would they demonst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age of learning are they 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sk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cl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ree features of the performance which ar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692280"/>
            <a:ext cx="8280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92280"/>
            <a:ext cx="828036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 of a model perfor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y help you improve your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4936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0560" y="54936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692280"/>
            <a:ext cx="8280360" cy="65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rtant that you understand what a model performance is like in the skill you have been developing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need to know t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epa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recove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skill and how your performance compares (Similarities and Differenc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692280"/>
            <a:ext cx="79930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1280" y="692280"/>
            <a:ext cx="7993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: Internal/Extern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defini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feedback help you during training?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re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692280"/>
            <a:ext cx="79930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: Intrinsic/Extrinsic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n examples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motivation help you du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? Give thre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692280"/>
            <a:ext cx="79930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ctors effecting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nt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definition of concent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concentration help you du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? Give three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hamiltonp</cp:lastModifiedBy>
  <dcterms:modified xsi:type="dcterms:W3CDTF">2011-01-14T13:38:47Z</dcterms:modified>
  <cp:revision>16</cp:revision>
  <dc:subject/>
  <dc:title>Slide 1</dc:title>
</cp:coreProperties>
</file>